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5E1-B154-4448-9D14-DA1A1D3E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3D4-2AAF-4017-96A2-9D74D612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4F8-4DC2-47F3-BDED-496FA6B7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476-1689-4508-866A-50C34C8B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2D46-C72F-49F8-82F2-BCD082A1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64D5-EC8B-46FA-A191-D59047EA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3FA9-D75F-46CF-A9FB-722EF798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43A1-CA27-4076-AE33-0DCACE01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D6C6-3ED2-4CE1-A3F3-2C7CC5C2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974D-60B9-4D08-80D6-59B69614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5B0F-1626-4701-913F-5A09DD3B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E69-D95B-412B-85E2-6B4EAE5A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1588-7AEF-4467-9D5A-182D4AE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4AB1-9967-450A-A543-50EB36E5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0D63-2621-40A7-9262-C9647A45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6AD2-3333-420F-9054-4B168E2E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0935-FE0C-4482-912B-4455EE51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BE4-493D-4E79-81AD-A36E994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A44-CFEC-441F-801A-7D78D6F1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C98-3C7A-46E5-ADFF-63744DF3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4DD-92C6-42AA-AA8B-1FB00489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9DB-E7A8-4F49-8980-77E9BA1A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33A-D985-4CA7-9019-BFA63BD5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AF9-96B0-4A25-8ED4-E391EF09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4BB8-D8A9-43A0-8EF7-E14C93E5F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2B34-23D4-46D6-8C13-5DCDCDE64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nd C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Producer Alyssa Moncea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pose of this movie is to inform the viewer about sand cats. The movie will tell you the environment it lives in, what it eat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special because it is about an animal that most people don’t even k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59:31Z</dcterms:created>
  <dc:creator/>
  <dc:description/>
  <dc:language>en-US</dc:language>
  <cp:lastModifiedBy>City School</cp:lastModifiedBy>
  <dcterms:modified xsi:type="dcterms:W3CDTF">2013-02-21T20:56:33Z</dcterms:modified>
  <cp:revision>45</cp:revision>
  <dc:subject/>
  <dc:title>The Pitch-Then-Plan Business Planning Template</dc:title>
</cp:coreProperties>
</file>